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388-D116-4B1A-8ADC-5076A84F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A7A9-D322-48AF-BE3B-0332F647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036-F12A-476C-A0E3-518DC280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599-0F95-4EAF-A32F-A29F9A3C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FB31-74A4-495F-B22C-D27BF7D8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33CB-B491-4D93-B2FF-6F4BEEA4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8B2-112D-414B-954C-9B5FBA54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FEA-07D6-4DA2-81DE-FD1272C3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D4FC-8CD2-4E7D-B828-E7A8E2EA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CF6F-32D2-47CD-BFC0-A816545B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9A41-021D-4FA8-8AB3-84D838F9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6E4-8EE0-460C-A59A-8E3D3634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512A-D10D-4D66-8978-6874F1E71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76320"/>
          <a:ext cx="8610480" cy="65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320"/>
                    <a:ext cx="8610480" cy="65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316240" y="228600"/>
          <a:ext cx="485928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6240" y="228600"/>
                    <a:ext cx="48592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263680" y="533520"/>
          <a:ext cx="450072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3680" y="533520"/>
                    <a:ext cx="45007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517840" y="609480"/>
          <a:ext cx="441648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7840" y="609480"/>
                    <a:ext cx="44164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04920" y="452520"/>
          <a:ext cx="8229600" cy="59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2520"/>
                    <a:ext cx="8229600" cy="59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417760" y="304920"/>
          <a:ext cx="464040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7760" y="304920"/>
                    <a:ext cx="46404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6400" y="0"/>
            <a:ext cx="560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565200"/>
          <a:ext cx="9144000" cy="57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5200"/>
                    <a:ext cx="9144000" cy="57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473120" y="291960"/>
          <a:ext cx="6197760" cy="627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291960"/>
                    <a:ext cx="619776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16320" y="228600"/>
            <a:ext cx="47066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2:45:56Z</dcterms:created>
  <dc:creator>tahir</dc:creator>
  <dc:description/>
  <dc:language>en-US</dc:language>
  <cp:lastModifiedBy>tahir</cp:lastModifiedBy>
  <dcterms:modified xsi:type="dcterms:W3CDTF">2006-02-07T12:47:47Z</dcterms:modified>
  <cp:revision>1</cp:revision>
  <dc:subject/>
  <dc:title>الشريحة 1</dc:title>
</cp:coreProperties>
</file>